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867CA-2150-47B7-B5DC-B5C042B3B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ACAC4-DFA1-49DD-AAF5-222AECF47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C7BE2-3FB5-4CC7-8D75-768F05426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9A352-A3BC-46C9-859C-C86471593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222D37-359C-4208-89C2-881352E605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91E8A-9B59-48AC-AB12-D0560838F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EBAC5-8BF4-4D75-9F38-2864E0BAF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D0DB3-6E2E-4486-BCED-9F3B6709F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03C37-FB93-4B30-AAC1-6DB95BD47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51953-A5DA-42BE-9638-3EDD08D56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3E896-2024-4ECF-8D2B-5768D7F8C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80D3E-14F9-4EF6-ADA1-BAFBC86D2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F50D4-9BAE-48F3-8561-AC4174D09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0E605-1EED-4B50-A053-FEF1451AC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2E53F-EBC4-400C-96B0-C3F47A671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21AFC-5D6E-46E0-B257-890B03B69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DC886-CB81-497D-8590-D3983CA56E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30043-4BDC-47CD-BF0D-E9631F4DB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A3CA2-7F34-48C2-88B2-8F038D5B9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84F1A-DE2D-4957-85AB-AB7ED06C5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D085E-2096-4D95-AE5D-A74A1158B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59DEE-ECAD-4BE4-A840-302006180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C30C7-12AA-4CE1-A1F2-E60D6BE11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F4BA7-3BB4-4C06-90F5-D3B8A4A8F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C508-1E33-4972-B3FE-E76764EE66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C1E7-134B-4C49-997B-D59C2D804E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do an Annotated Bibliography and Works Cited, with a little bit on MLA format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mportant Quotations</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ction should list the important quotations you plan to use from this source.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once your annotated bibliography is done, you should not have to look at the source again.  This is very useful when you have limited access to sources (protected collections in a librar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ation: Lippman, Walter. “The Indispensable Opposition.” </a:t>
            </a:r>
            <a:r>
              <a:rPr b="0" lang="en-US" sz="2000" spc="-1" strike="noStrike" u="sng">
                <a:solidFill>
                  <a:srgbClr val="000000"/>
                </a:solidFill>
                <a:uFillTx/>
                <a:latin typeface="Arial"/>
              </a:rPr>
              <a:t>The Atlantic Monthly</a:t>
            </a:r>
            <a:r>
              <a:rPr b="0" lang="en-US" sz="2000" spc="-1" strike="noStrike">
                <a:solidFill>
                  <a:srgbClr val="000000"/>
                </a:solidFill>
                <a:latin typeface="Arial"/>
              </a:rPr>
              <a:t>.  1939. Prin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Lippman argues that freedom of speech is not a noble right or something to be tolerated; rather, it is absolutely necessary to hear the opposition in order to improve our own opinion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etorical Strategies: arrangement (counter argument/rebuttal first), establishes ethos through considering other side, uses logos through reasoning, refutes famous quotation, antithesis/parallelism, incongruous comparison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ations:  “liberty of opinion is a luxury”(include page number if available), “we must protect the right of our opponents to speak because we must hear what they have to say”,  “freedom of discussion improves our own opinions”, “the liberties of other men are own vital necessity”, “we tolerate the freedom of our political opponents as we tolerate a howling baby next do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paring the Works Cited page</a:t>
            </a: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s Cited page is a complete listing of the bibliographic citations of the sources you actually used in your essa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ppears at the end of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rmatting</a:t>
            </a: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ge should say Works Cited centered at the top.</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ations appear in alphabetical order by the beginning of the ci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space cit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indent the first line; indent the second, third,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orks Cited</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n, R.L. </a:t>
            </a:r>
            <a:r>
              <a:rPr b="0" i="1" lang="en-US" sz="2400" spc="-1" strike="noStrike">
                <a:solidFill>
                  <a:srgbClr val="000000"/>
                </a:solidFill>
                <a:latin typeface="Arial"/>
              </a:rPr>
              <a:t>The American Farm Book; or Compend of American Agriculture; Being a Practical Treatise on Soils, Manures, Draining, Irrigation, Grasses, Grain,Roots, Fruits, Cotton, Tobacco, Sugar Cane, Rice, and Every Staple Product of the United States with the Best Methods of Planting, Cultivating, and Preparation for Market</a:t>
            </a:r>
            <a:r>
              <a:rPr b="0" lang="en-US" sz="2400" spc="-1" strike="noStrike">
                <a:solidFill>
                  <a:srgbClr val="000000"/>
                </a:solidFill>
                <a:latin typeface="Arial"/>
              </a:rPr>
              <a:t>. New York: Saxton, 1849. Pri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ker, Gladys L., Wayne D. Rasmussen, Vivian Wiser, and Jane M. Porter. </a:t>
            </a:r>
            <a:r>
              <a:rPr b="0" i="1" lang="en-US" sz="2400" spc="-1" strike="noStrike">
                <a:solidFill>
                  <a:srgbClr val="000000"/>
                </a:solidFill>
                <a:latin typeface="Arial"/>
              </a:rPr>
              <a:t>Century of Service: The First 100 Years of the United States Department of Agriculture</a:t>
            </a:r>
            <a:r>
              <a:rPr b="0" lang="en-US" sz="2400" spc="-1" strike="noStrike">
                <a:solidFill>
                  <a:srgbClr val="000000"/>
                </a:solidFill>
                <a:latin typeface="Arial"/>
              </a:rPr>
              <a:t>.[Federal Government], 1996. Pri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hof, Clarence H. </a:t>
            </a:r>
            <a:r>
              <a:rPr b="0" i="1" lang="en-US" sz="2400" spc="-1" strike="noStrike">
                <a:solidFill>
                  <a:srgbClr val="000000"/>
                </a:solidFill>
                <a:latin typeface="Arial"/>
              </a:rPr>
              <a:t>Change in Agriculture: The Northern United States, 1820-1870</a:t>
            </a:r>
            <a:r>
              <a:rPr b="0" lang="en-US" sz="2400" spc="-1" strike="noStrike">
                <a:solidFill>
                  <a:srgbClr val="000000"/>
                </a:solidFill>
                <a:latin typeface="Arial"/>
              </a:rPr>
              <a:t>.Cambridge, MA: Harvard UP, 1969. Pr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LA Formatting of Your Paper</a:t>
            </a: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your paper on a computer and print it out on standard, white 8.5 x 11-inch paper.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space the text of your paper, and use a legible font (e.g. Times New Roman). The font size should be 12 pt.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margins of your document to 1 inch on all sides.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nt the first line of paragraphs one half-inch from the left margin. MLA recommends that you use the Tab key as opposed to pushing the Space Bar five times.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header that numbers all pages consecutively in the upper right-hand corner, one-half inch from the top and flush with the right marg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rmatting the First Page</a:t>
            </a: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upper left-hand corner of the first page, list your name, your instructor's name, the course, and the date. Again, be sure to use double-spaced tex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space again and center the title. Do not underline, italicize, or place your title in quotation marks; write the title in Title Case (standard capitalization), not in all capital letter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quotation marks and/or italics when referring to other works in your title, just as you would in your text: </a:t>
            </a:r>
            <a:r>
              <a:rPr b="0" i="1" lang="en-US" sz="2000" spc="-1" strike="noStrike">
                <a:solidFill>
                  <a:srgbClr val="000000"/>
                </a:solidFill>
                <a:latin typeface="Arial"/>
              </a:rPr>
              <a:t>Fear and Loathing in Las Vegas</a:t>
            </a:r>
            <a:r>
              <a:rPr b="0" lang="en-US" sz="2000" spc="-1" strike="noStrike">
                <a:solidFill>
                  <a:srgbClr val="000000"/>
                </a:solidFill>
                <a:latin typeface="Arial"/>
              </a:rPr>
              <a:t> as Morality Play; Human Weariness in "After Apple Picking"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space between the title and the first line of the tex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286000" y="1600200"/>
            <a:ext cx="3800520" cy="4896000"/>
          </a:xfrm>
          <a:prstGeom prst="rect">
            <a:avLst/>
          </a:prstGeom>
          <a:ln w="0">
            <a:noFill/>
          </a:ln>
        </p:spPr>
      </p:pic>
      <p:sp>
        <p:nvSpPr>
          <p:cNvPr id="127" name=""/>
          <p:cNvSpPr/>
          <p:nvPr/>
        </p:nvSpPr>
        <p:spPr>
          <a:xfrm>
            <a:off x="914400" y="60948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First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verall Annotated Bibliography Format</a:t>
            </a:r>
            <a:endParaRPr b="0" lang="en-US" sz="3400" spc="-1" strike="noStrike">
              <a:solidFill>
                <a:srgbClr val="000000"/>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bibliographic inform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Source Materia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etorical Strategies O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How you might use this source in your essa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Quot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plete Bibliographic Information</a:t>
            </a: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complete publication information for your source as it will appear in your Works Cited.  Your bibliography lists all the sources you consulted; your Works Cited lists the ones that actually appear in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ibliography Examples</a:t>
            </a:r>
            <a:endParaRPr b="0" lang="en-US" sz="38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ama, Barack. </a:t>
            </a:r>
            <a:r>
              <a:rPr b="0" lang="en-US" sz="3200" spc="-1" strike="noStrike" u="sng">
                <a:solidFill>
                  <a:srgbClr val="000000"/>
                </a:solidFill>
                <a:uFillTx/>
                <a:latin typeface="Arial"/>
              </a:rPr>
              <a:t>Dreams from my Father: </a:t>
            </a:r>
            <a:r>
              <a:rPr b="0" lang="en-US" sz="3200" spc="-1" strike="noStrike">
                <a:solidFill>
                  <a:srgbClr val="000000"/>
                </a:solidFill>
                <a:latin typeface="Arial"/>
              </a:rPr>
              <a:t>	</a:t>
            </a:r>
            <a:r>
              <a:rPr b="0" lang="en-US" sz="3200" spc="-1" strike="noStrike" u="sng">
                <a:solidFill>
                  <a:srgbClr val="000000"/>
                </a:solidFill>
                <a:uFillTx/>
                <a:latin typeface="Arial"/>
              </a:rPr>
              <a:t>A Story of Race and Inheritance.</a:t>
            </a:r>
            <a:r>
              <a:rPr b="0" lang="en-US" sz="3200" spc="-1" strike="noStrike">
                <a:solidFill>
                  <a:srgbClr val="000000"/>
                </a:solidFill>
                <a:latin typeface="Arial"/>
              </a:rPr>
              <a:t> New </a:t>
            </a:r>
            <a:r>
              <a:rPr b="0" lang="en-US" sz="3200" spc="-1" strike="noStrike">
                <a:solidFill>
                  <a:srgbClr val="000000"/>
                </a:solidFill>
                <a:latin typeface="Arial"/>
              </a:rPr>
              <a:t>	</a:t>
            </a:r>
            <a:r>
              <a:rPr b="0" lang="en-US" sz="3200" spc="-1" strike="noStrike">
                <a:solidFill>
                  <a:srgbClr val="000000"/>
                </a:solidFill>
                <a:latin typeface="Arial"/>
              </a:rPr>
              <a:t>York: Crown, 2007.</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ama, Barack. “Full Text of Obama’s </a:t>
            </a:r>
            <a:r>
              <a:rPr b="0" lang="en-US" sz="3200" spc="-1" strike="noStrike">
                <a:solidFill>
                  <a:srgbClr val="000000"/>
                </a:solidFill>
                <a:latin typeface="Arial"/>
              </a:rPr>
              <a:t>	</a:t>
            </a:r>
            <a:r>
              <a:rPr b="0" lang="en-US" sz="3200" spc="-1" strike="noStrike">
                <a:solidFill>
                  <a:srgbClr val="000000"/>
                </a:solidFill>
                <a:latin typeface="Arial"/>
              </a:rPr>
              <a:t>Nobel Peace Prize Acceptance </a:t>
            </a:r>
            <a:r>
              <a:rPr b="0" lang="en-US" sz="3200" spc="-1" strike="noStrike">
                <a:solidFill>
                  <a:srgbClr val="000000"/>
                </a:solidFill>
                <a:latin typeface="Arial"/>
              </a:rPr>
              <a:t>	</a:t>
            </a:r>
            <a:r>
              <a:rPr b="0" lang="en-US" sz="3200" spc="-1" strike="noStrike">
                <a:solidFill>
                  <a:srgbClr val="000000"/>
                </a:solidFill>
                <a:latin typeface="Arial"/>
              </a:rPr>
              <a:t>Speech.” </a:t>
            </a:r>
            <a:r>
              <a:rPr b="0" i="1" lang="en-US" sz="3200" spc="-1" strike="noStrike">
                <a:solidFill>
                  <a:srgbClr val="000000"/>
                </a:solidFill>
                <a:latin typeface="Arial"/>
              </a:rPr>
              <a:t>MSNBC.</a:t>
            </a:r>
            <a:r>
              <a:rPr b="0" lang="en-US" sz="3200" spc="-1" strike="noStrike">
                <a:solidFill>
                  <a:srgbClr val="000000"/>
                </a:solidFill>
                <a:latin typeface="Arial"/>
              </a:rPr>
              <a:t>  MSNBC, 10 </a:t>
            </a:r>
            <a:r>
              <a:rPr b="0" lang="en-US" sz="3200" spc="-1" strike="noStrike">
                <a:solidFill>
                  <a:srgbClr val="000000"/>
                </a:solidFill>
                <a:latin typeface="Arial"/>
              </a:rPr>
              <a:t>	</a:t>
            </a:r>
            <a:r>
              <a:rPr b="0" lang="en-US" sz="3200" spc="-1" strike="noStrike">
                <a:solidFill>
                  <a:srgbClr val="000000"/>
                </a:solidFill>
                <a:latin typeface="Arial"/>
              </a:rPr>
              <a:t>December 2009. Web. 27 January </a:t>
            </a:r>
            <a:r>
              <a:rPr b="0" lang="en-US" sz="3200" spc="-1" strike="noStrike">
                <a:solidFill>
                  <a:srgbClr val="000000"/>
                </a:solidFill>
                <a:latin typeface="Arial"/>
              </a:rPr>
              <a:t>	</a:t>
            </a:r>
            <a:r>
              <a:rPr b="0" lang="en-US" sz="3200" spc="-1" strike="noStrike">
                <a:solidFill>
                  <a:srgbClr val="000000"/>
                </a:solidFill>
                <a:latin typeface="Arial"/>
              </a:rPr>
              <a:t>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re Examples</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John McCain for Senator.</a:t>
            </a:r>
            <a:r>
              <a:rPr b="0" lang="en-US" sz="3200" spc="-1" strike="noStrike">
                <a:solidFill>
                  <a:srgbClr val="000000"/>
                </a:solidFill>
                <a:latin typeface="Arial"/>
              </a:rPr>
              <a:t> Friends of John </a:t>
            </a:r>
            <a:r>
              <a:rPr b="0" lang="en-US" sz="3200" spc="-1" strike="noStrike">
                <a:solidFill>
                  <a:srgbClr val="000000"/>
                </a:solidFill>
                <a:latin typeface="Arial"/>
              </a:rPr>
              <a:t>	</a:t>
            </a:r>
            <a:r>
              <a:rPr b="0" lang="en-US" sz="3200" spc="-1" strike="noStrike">
                <a:solidFill>
                  <a:srgbClr val="000000"/>
                </a:solidFill>
                <a:latin typeface="Arial"/>
              </a:rPr>
              <a:t>McCain. Web. 27 January 201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sic Format for Electronic Sources</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 and/or editor names (if avail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name in quotation marks (if applic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 of the Website, project, or book in italics. (Remember that some Print publications have Web publications with slightly different names. They may, for example, include the additional information or otherwise modified information, like domain names [e.g. .com or .ne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version numbers available, including revisions, posting dates, volumes, or issue number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r information, including the publisher name and publishing dat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note of any page numbers (if avail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you accessed the materi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Best Online Source for Help</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due Online Writing Lab (OW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A Style Guid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owl.english.purdue.edu/owl/section/2/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ummary of the content of the sourc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hetorical sources, this should be the argument of the sourc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informational sources, this should be a summary of the information in the source – NOT a description of the sour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hetorical Strategies/Use</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rhetorical source, this section should be a listing of the primary strategies used by the rheto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 informational source, this section should detail how you plan to use the source in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3:38:20Z</dcterms:created>
  <dc:creator>Malden Public Schools</dc:creator>
  <dc:description/>
  <dc:language>en-US</dc:language>
  <cp:lastModifiedBy>Malden Public Schools</cp:lastModifiedBy>
  <dcterms:modified xsi:type="dcterms:W3CDTF">2010-01-27T16:33:44Z</dcterms:modified>
  <cp:revision>4</cp:revision>
  <dc:subject/>
  <dc:title>How to do an annotated bibliography</dc:title>
</cp:coreProperties>
</file>